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10.png" ContentType="image/png"/>
  <Override PartName="/ppt/media/image47.png" ContentType="image/png"/>
  <Override PartName="/ppt/media/image31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17.png" ContentType="image/png"/>
  <Override PartName="/ppt/media/image5.png" ContentType="image/png"/>
  <Override PartName="/ppt/media/image28.png" ContentType="image/png"/>
  <Override PartName="/ppt/media/image65.png" ContentType="image/png"/>
  <Override PartName="/ppt/media/image26.wmf" ContentType="image/x-wmf"/>
  <Override PartName="/ppt/media/image16.png" ContentType="image/png"/>
  <Override PartName="/ppt/media/image4.png" ContentType="image/png"/>
  <Override PartName="/ppt/media/image64.png" ContentType="image/png"/>
  <Override PartName="/ppt/media/image25.wmf" ContentType="image/x-wmf"/>
  <Override PartName="/ppt/media/image15.png" ContentType="image/png"/>
  <Override PartName="/ppt/media/image3.png" ContentType="image/png"/>
  <Override PartName="/ppt/media/image63.png" ContentType="image/png"/>
  <Override PartName="/ppt/media/image27.wmf" ContentType="image/x-wmf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9.png" ContentType="image/png"/>
  <Override PartName="/ppt/media/image8.png" ContentType="image/png"/>
  <Override PartName="/ppt/media/image4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EAE-A6E9-4627-A5A7-79FD89E2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51D-0DC1-4BC2-9465-141DFA9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ADC-E0A2-43D8-8F2C-E08B3D6F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930-8A6A-41A6-A8D8-6C9A6BE3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BF2-2C08-4F73-9B3E-D8BCC806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72C-5980-43A2-B39E-C1BF93A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2FB-73BF-44D9-BA72-F5D118F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C82-9D26-4941-853C-79944B1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C2C-8FA9-42D3-8A82-CA34B6ED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D32-6618-4117-84F5-1FD0967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806-9511-494C-AB72-A525D46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864-3B32-4E0C-AB95-74601A5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2DB-6AB6-4264-B808-29EF40352A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9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wmf"/><Relationship Id="rId4" Type="http://schemas.openxmlformats.org/officeDocument/2006/relationships/image" Target="../media/image33.wmf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 Título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42" name="1 Título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3200" spc="-1" strike="noStrike">
                  <a:solidFill>
                    <a:srgbClr val="000000"/>
                  </a:solidFill>
                  <a:latin typeface="Arial"/>
                </a:rPr>
                <a:t>BOLILLA 9</a:t>
              </a:r>
              <a:br>
                <a:rPr sz="3200"/>
              </a:br>
              <a:r>
                <a:rPr b="0" lang="es-PE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PE" sz="3200" spc="-1" strike="noStrike">
                  <a:solidFill>
                    <a:srgbClr val="000000"/>
                  </a:solidFill>
                  <a:latin typeface="Arial"/>
                </a:rPr>
                <a:t>METABOLISMO DE NUCLEOTID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</a:t>
            </a: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nucleótidos de purina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</a:t>
            </a: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pirimidinas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cuperación de Bases púricas y pirimidí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egradación de nucleótidos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úricos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irimidí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desoxirribo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dT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RADACION DE LOS 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eutilizacion de bases"/>
          <p:cNvPicPr/>
          <p:nvPr/>
        </p:nvPicPr>
        <p:blipFill>
          <a:blip r:embed="rId1"/>
          <a:stretch/>
        </p:blipFill>
        <p:spPr>
          <a:xfrm>
            <a:off x="1835280" y="1752480"/>
            <a:ext cx="5689440" cy="4892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908000" y="4076640"/>
            <a:ext cx="540072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835280" y="5084640"/>
            <a:ext cx="5616360" cy="17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651640" y="3933720"/>
            <a:ext cx="1728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UMEN DE LA BIOSINTESIS DE NUCLEOTIDOS PU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S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(V.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Glutamina, Glicina,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secundar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umarato y Glutam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rivados de F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s-ES" sz="3200" spc="-1" strike="noStrike" baseline="30000">
                <a:solidFill>
                  <a:srgbClr val="333399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ormil FH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dores de Energí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TP y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una molécula de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s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una  d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p7251"/>
          <p:cNvPicPr/>
          <p:nvPr/>
        </p:nvPicPr>
        <p:blipFill>
          <a:blip r:embed="rId1"/>
          <a:stretch/>
        </p:blipFill>
        <p:spPr>
          <a:xfrm>
            <a:off x="468360" y="2205000"/>
            <a:ext cx="8324640" cy="1492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95280" y="404640"/>
            <a:ext cx="8280360" cy="106884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s reducidas del folato y sus derivados monocarbo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1280" y="3349800"/>
            <a:ext cx="143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708360" y="3213000"/>
            <a:ext cx="1727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04000" y="3284640"/>
            <a:ext cx="1944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sp7271"/>
          <p:cNvPicPr/>
          <p:nvPr/>
        </p:nvPicPr>
        <p:blipFill>
          <a:blip r:embed="rId2"/>
          <a:stretch/>
        </p:blipFill>
        <p:spPr>
          <a:xfrm>
            <a:off x="468360" y="3860640"/>
            <a:ext cx="3672000" cy="2113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55640" y="5661000"/>
            <a:ext cx="3384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Metileno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284720" y="5300640"/>
            <a:ext cx="33843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 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Formil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284720" y="6093000"/>
            <a:ext cx="33843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Metenil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7667640" y="4869000"/>
            <a:ext cx="1008000" cy="876960"/>
            <a:chOff x="7667640" y="4869000"/>
            <a:chExt cx="1008000" cy="876960"/>
          </a:xfrm>
        </p:grpSpPr>
        <p:sp>
          <p:nvSpPr>
            <p:cNvPr id="121" name="Text Box 12"/>
            <p:cNvSpPr/>
            <p:nvPr/>
          </p:nvSpPr>
          <p:spPr>
            <a:xfrm>
              <a:off x="7667640" y="4869000"/>
              <a:ext cx="1008000" cy="8769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H="1">
              <a:off x="7934040" y="5351400"/>
              <a:ext cx="6804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 flipH="1">
              <a:off x="8002440" y="5372280"/>
              <a:ext cx="6768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5"/>
            <p:cNvSpPr/>
            <p:nvPr/>
          </p:nvSpPr>
          <p:spPr>
            <a:xfrm>
              <a:off x="8137440" y="499284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8272080" y="5372280"/>
              <a:ext cx="6660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7"/>
          <p:cNvSpPr/>
          <p:nvPr/>
        </p:nvSpPr>
        <p:spPr>
          <a:xfrm>
            <a:off x="4427640" y="3933720"/>
            <a:ext cx="2232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–metil te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7885080" y="3933720"/>
            <a:ext cx="576360" cy="503280"/>
            <a:chOff x="7885080" y="3933720"/>
            <a:chExt cx="576360" cy="503280"/>
          </a:xfrm>
        </p:grpSpPr>
        <p:sp>
          <p:nvSpPr>
            <p:cNvPr id="128" name="Text Box 19"/>
            <p:cNvSpPr/>
            <p:nvPr/>
          </p:nvSpPr>
          <p:spPr>
            <a:xfrm>
              <a:off x="7885080" y="3933720"/>
              <a:ext cx="576360" cy="503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ff"/>
                  </a:solidFill>
                  <a:latin typeface="Arial"/>
                </a:rPr>
                <a:t>CH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>
              <a:off x="7981200" y="4083480"/>
              <a:ext cx="0" cy="150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7885080" y="5877000"/>
            <a:ext cx="576360" cy="588240"/>
            <a:chOff x="7885080" y="5877000"/>
            <a:chExt cx="576360" cy="588240"/>
          </a:xfrm>
        </p:grpSpPr>
        <p:sp>
          <p:nvSpPr>
            <p:cNvPr id="131" name="Text Box 22"/>
            <p:cNvSpPr/>
            <p:nvPr/>
          </p:nvSpPr>
          <p:spPr>
            <a:xfrm>
              <a:off x="7885080" y="5877000"/>
              <a:ext cx="576360" cy="588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ff"/>
                  </a:solidFill>
                  <a:latin typeface="Arial"/>
                </a:rPr>
                <a:t>H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102520" y="6093000"/>
              <a:ext cx="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4"/>
            <p:cNvSpPr/>
            <p:nvPr/>
          </p:nvSpPr>
          <p:spPr>
            <a:xfrm>
              <a:off x="8173800" y="6093000"/>
              <a:ext cx="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25"/>
          <p:cNvSpPr/>
          <p:nvPr/>
        </p:nvSpPr>
        <p:spPr>
          <a:xfrm>
            <a:off x="8317080" y="6308640"/>
            <a:ext cx="142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2786040" y="2643120"/>
          <a:ext cx="286380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2643120"/>
                    <a:ext cx="286380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21 Grupo"/>
          <p:cNvGrpSpPr/>
          <p:nvPr/>
        </p:nvGrpSpPr>
        <p:grpSpPr>
          <a:xfrm>
            <a:off x="3714840" y="4500720"/>
            <a:ext cx="1439640" cy="1408320"/>
            <a:chOff x="3714840" y="4500720"/>
            <a:chExt cx="1439640" cy="1408320"/>
          </a:xfrm>
        </p:grpSpPr>
        <p:sp>
          <p:nvSpPr>
            <p:cNvPr id="138" name="Line 10"/>
            <p:cNvSpPr/>
            <p:nvPr/>
          </p:nvSpPr>
          <p:spPr>
            <a:xfrm>
              <a:off x="3857400" y="4714920"/>
              <a:ext cx="14256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 flipH="1">
              <a:off x="4500360" y="4500720"/>
              <a:ext cx="291960" cy="78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3714840" y="5357880"/>
              <a:ext cx="1439640" cy="5511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GLUTAM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14 Grupo"/>
          <p:cNvGrpSpPr/>
          <p:nvPr/>
        </p:nvGrpSpPr>
        <p:grpSpPr>
          <a:xfrm>
            <a:off x="3800880" y="1714680"/>
            <a:ext cx="2495160" cy="3021120"/>
            <a:chOff x="3800880" y="1714680"/>
            <a:chExt cx="2495160" cy="3021120"/>
          </a:xfrm>
        </p:grpSpPr>
        <p:sp>
          <p:nvSpPr>
            <p:cNvPr id="142" name="Line 20"/>
            <p:cNvSpPr/>
            <p:nvPr/>
          </p:nvSpPr>
          <p:spPr>
            <a:xfrm flipH="1">
              <a:off x="4998600" y="1940040"/>
              <a:ext cx="647640" cy="11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1"/>
            <p:cNvSpPr/>
            <p:nvPr/>
          </p:nvSpPr>
          <p:spPr>
            <a:xfrm>
              <a:off x="5143320" y="1714680"/>
              <a:ext cx="1152720" cy="551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GLIC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 rot="17991600">
              <a:off x="4084200" y="3049200"/>
              <a:ext cx="1380240" cy="1452960"/>
            </a:xfrm>
            <a:prstGeom prst="pie">
              <a:avLst/>
            </a:prstGeom>
            <a:solidFill>
              <a:srgbClr val="bbe0e3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22 Grupo"/>
          <p:cNvGrpSpPr/>
          <p:nvPr/>
        </p:nvGrpSpPr>
        <p:grpSpPr>
          <a:xfrm>
            <a:off x="2357280" y="3571920"/>
            <a:ext cx="3571920" cy="3123000"/>
            <a:chOff x="2357280" y="3571920"/>
            <a:chExt cx="3571920" cy="3123000"/>
          </a:xfrm>
        </p:grpSpPr>
        <p:sp>
          <p:nvSpPr>
            <p:cNvPr id="146" name="Oval 13"/>
            <p:cNvSpPr/>
            <p:nvPr/>
          </p:nvSpPr>
          <p:spPr>
            <a:xfrm>
              <a:off x="5072040" y="3571920"/>
              <a:ext cx="857160" cy="502920"/>
            </a:xfrm>
            <a:prstGeom prst="ellipse">
              <a:avLst/>
            </a:prstGeom>
            <a:solidFill>
              <a:srgbClr val="ff66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571480" y="3857400"/>
              <a:ext cx="1143000" cy="500040"/>
            </a:xfrm>
            <a:prstGeom prst="ellipse">
              <a:avLst/>
            </a:prstGeom>
            <a:solidFill>
              <a:srgbClr val="ff66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357280" y="5929200"/>
              <a:ext cx="647640" cy="502920"/>
            </a:xfrm>
            <a:prstGeom prst="ellipse">
              <a:avLst/>
            </a:prstGeom>
            <a:solidFill>
              <a:srgbClr val="ff66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3285720" y="628668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4429080" y="6143760"/>
              <a:ext cx="1214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RMI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8"/>
          <p:cNvSpPr/>
          <p:nvPr/>
        </p:nvSpPr>
        <p:spPr>
          <a:xfrm>
            <a:off x="1143000" y="3286080"/>
            <a:ext cx="1366920" cy="551160"/>
          </a:xfrm>
          <a:prstGeom prst="rect">
            <a:avLst/>
          </a:prstGeom>
          <a:solidFill>
            <a:srgbClr val="99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29 Grupo"/>
          <p:cNvGrpSpPr/>
          <p:nvPr/>
        </p:nvGrpSpPr>
        <p:grpSpPr>
          <a:xfrm>
            <a:off x="2852640" y="2143080"/>
            <a:ext cx="1152720" cy="1146240"/>
            <a:chOff x="2852640" y="2143080"/>
            <a:chExt cx="1152720" cy="1146240"/>
          </a:xfrm>
        </p:grpSpPr>
        <p:sp>
          <p:nvSpPr>
            <p:cNvPr id="153" name="AutoShape 23"/>
            <p:cNvSpPr/>
            <p:nvPr/>
          </p:nvSpPr>
          <p:spPr>
            <a:xfrm>
              <a:off x="3500640" y="2928960"/>
              <a:ext cx="504720" cy="360360"/>
            </a:xfrm>
            <a:prstGeom prst="pie">
              <a:avLst/>
            </a:prstGeom>
            <a:solidFill>
              <a:srgbClr val="ffff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3286080" y="2428920"/>
              <a:ext cx="2142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5"/>
            <p:cNvSpPr/>
            <p:nvPr/>
          </p:nvSpPr>
          <p:spPr>
            <a:xfrm>
              <a:off x="2852640" y="2143080"/>
              <a:ext cx="648000" cy="61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28 Conector recto de flecha"/>
          <p:cNvCxnSpPr/>
          <p:nvPr/>
        </p:nvCxnSpPr>
        <p:spPr>
          <a:xfrm>
            <a:off x="2571480" y="3499920"/>
            <a:ext cx="500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>
                  <a:alpha val="76078"/>
                </a:srgbClr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cedencia de los átomos del anillo de PU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Rectangle 2"/>
          <p:cNvGrpSpPr/>
          <p:nvPr/>
        </p:nvGrpSpPr>
        <p:grpSpPr>
          <a:xfrm>
            <a:off x="457200" y="324000"/>
            <a:ext cx="8253360" cy="1163520"/>
            <a:chOff x="457200" y="324000"/>
            <a:chExt cx="8253360" cy="11635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457200" y="324000"/>
              <a:ext cx="82533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8360" y="3333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BIOSINTESIS DE NOVO</a:t>
              </a:r>
              <a:br>
                <a:rPr sz="3200"/>
              </a:b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NUCLEOTIDOS DE PUR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8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5076720" y="2341440"/>
            <a:ext cx="4067280" cy="187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DR5P"/>
          <p:cNvPicPr/>
          <p:nvPr/>
        </p:nvPicPr>
        <p:blipFill>
          <a:blip r:embed="rId3"/>
          <a:srcRect l="0" t="0" r="0" b="10531"/>
          <a:stretch/>
        </p:blipFill>
        <p:spPr>
          <a:xfrm>
            <a:off x="125280" y="1989000"/>
            <a:ext cx="2791080" cy="2527560"/>
          </a:xfrm>
          <a:prstGeom prst="rect">
            <a:avLst/>
          </a:prstGeom>
          <a:ln w="0">
            <a:noFill/>
          </a:ln>
        </p:spPr>
      </p:pic>
      <p:sp>
        <p:nvSpPr>
          <p:cNvPr id="163" name="Oval 11"/>
          <p:cNvSpPr/>
          <p:nvPr/>
        </p:nvSpPr>
        <p:spPr>
          <a:xfrm>
            <a:off x="2340000" y="1639800"/>
            <a:ext cx="1366920" cy="8654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25280" y="4581360"/>
            <a:ext cx="251964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a-5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219640" y="4262400"/>
            <a:ext cx="374508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AR100001"/>
          <p:cNvPicPr/>
          <p:nvPr/>
        </p:nvPicPr>
        <p:blipFill>
          <a:blip r:embed="rId6">
            <a:lum bright="-16000"/>
          </a:blip>
          <a:stretch/>
        </p:blipFill>
        <p:spPr>
          <a:xfrm>
            <a:off x="3348000" y="3500280"/>
            <a:ext cx="2664000" cy="432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RRWC099"/>
          <p:cNvPicPr/>
          <p:nvPr/>
        </p:nvPicPr>
        <p:blipFill>
          <a:blip r:embed="rId7">
            <a:lum bright="-24000"/>
          </a:blip>
          <a:stretch/>
        </p:blipFill>
        <p:spPr>
          <a:xfrm rot="4261200">
            <a:off x="2341440" y="2562120"/>
            <a:ext cx="130824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8" name="13 Grupo"/>
          <p:cNvGrpSpPr/>
          <p:nvPr/>
        </p:nvGrpSpPr>
        <p:grpSpPr>
          <a:xfrm>
            <a:off x="3602880" y="3782880"/>
            <a:ext cx="2566080" cy="2811600"/>
            <a:chOff x="3602880" y="3782880"/>
            <a:chExt cx="2566080" cy="2811600"/>
          </a:xfrm>
        </p:grpSpPr>
        <p:sp>
          <p:nvSpPr>
            <p:cNvPr id="169" name="Oval 12"/>
            <p:cNvSpPr/>
            <p:nvPr/>
          </p:nvSpPr>
          <p:spPr>
            <a:xfrm>
              <a:off x="4802040" y="5729400"/>
              <a:ext cx="1366920" cy="865080"/>
            </a:xfrm>
            <a:prstGeom prst="ellipse">
              <a:avLst/>
            </a:prstGeom>
            <a:gradFill rotWithShape="0">
              <a:gsLst>
                <a:gs pos="0">
                  <a:srgbClr val="fbf1a3"/>
                </a:gs>
                <a:gs pos="100000">
                  <a:srgbClr val="7470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17" descr="ARRWC200"/>
            <p:cNvPicPr/>
            <p:nvPr/>
          </p:nvPicPr>
          <p:blipFill>
            <a:blip r:embed="rId8"/>
            <a:stretch/>
          </p:blipFill>
          <p:spPr>
            <a:xfrm rot="20964000">
              <a:off x="3786120" y="3857400"/>
              <a:ext cx="10080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18"/>
          <p:cNvSpPr/>
          <p:nvPr/>
        </p:nvSpPr>
        <p:spPr>
          <a:xfrm rot="19493400">
            <a:off x="3548880" y="2093760"/>
            <a:ext cx="253512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PRPP sinte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378560" y="2997360"/>
            <a:ext cx="1765440" cy="1008000"/>
          </a:xfrm>
          <a:prstGeom prst="rect">
            <a:avLst/>
          </a:pr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ción de 5-Fosfo-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ribosil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sintesis purina"/>
          <p:cNvPicPr/>
          <p:nvPr/>
        </p:nvPicPr>
        <p:blipFill>
          <a:blip r:embed="rId1"/>
          <a:srcRect l="4679" t="10200" r="68448" b="79311"/>
          <a:stretch/>
        </p:blipFill>
        <p:spPr>
          <a:xfrm>
            <a:off x="5796000" y="2494080"/>
            <a:ext cx="3348000" cy="177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324000" y="2421000"/>
            <a:ext cx="3429000" cy="2076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30225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243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3203640" y="4581360"/>
            <a:ext cx="107928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6012000" y="4365720"/>
            <a:ext cx="1079280" cy="649080"/>
          </a:xfrm>
          <a:prstGeom prst="ellipse">
            <a:avLst/>
          </a:prstGeom>
          <a:solidFill>
            <a:srgbClr val="fcd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427640" y="2708280"/>
            <a:ext cx="8636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9" descr="ARRWC197"/>
          <p:cNvPicPr/>
          <p:nvPr/>
        </p:nvPicPr>
        <p:blipFill>
          <a:blip r:embed="rId4"/>
          <a:stretch/>
        </p:blipFill>
        <p:spPr>
          <a:xfrm>
            <a:off x="3814920" y="3284640"/>
            <a:ext cx="3024000" cy="326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1" descr="ARRWC100"/>
          <p:cNvPicPr/>
          <p:nvPr/>
        </p:nvPicPr>
        <p:blipFill>
          <a:blip r:embed="rId5">
            <a:lum bright="-30000"/>
          </a:blip>
          <a:stretch/>
        </p:blipFill>
        <p:spPr>
          <a:xfrm rot="12143400">
            <a:off x="4356000" y="2276280"/>
            <a:ext cx="1270080" cy="122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" descr="ARRWC157"/>
          <p:cNvPicPr/>
          <p:nvPr/>
        </p:nvPicPr>
        <p:blipFill>
          <a:blip r:embed="rId6">
            <a:lum bright="-24000"/>
          </a:blip>
          <a:stretch/>
        </p:blipFill>
        <p:spPr>
          <a:xfrm rot="20080200">
            <a:off x="3203280" y="3860280"/>
            <a:ext cx="946080" cy="44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9" descr="ARRWC007"/>
          <p:cNvPicPr/>
          <p:nvPr/>
        </p:nvPicPr>
        <p:blipFill>
          <a:blip r:embed="rId7"/>
          <a:stretch/>
        </p:blipFill>
        <p:spPr>
          <a:xfrm rot="7639800">
            <a:off x="5232960" y="3409200"/>
            <a:ext cx="40968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9"/>
          <p:cNvSpPr/>
          <p:nvPr/>
        </p:nvSpPr>
        <p:spPr>
          <a:xfrm>
            <a:off x="4068720" y="3573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8172360" y="2774880"/>
            <a:ext cx="647640" cy="40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324000" y="4508640"/>
            <a:ext cx="25923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7089840" y="4214880"/>
            <a:ext cx="2054160" cy="10087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ilamina (P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0160" y="0"/>
            <a:ext cx="8658000" cy="9288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quema de la biosintesis de nucleótidos pú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332720" y="1557360"/>
            <a:ext cx="2622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195640" y="335772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5445000"/>
            <a:ext cx="41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D-ribosil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P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651640" y="1700280"/>
            <a:ext cx="1368360" cy="53604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788000" y="6324480"/>
            <a:ext cx="10080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859280" y="5516640"/>
            <a:ext cx="79236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4643280" y="4869000"/>
            <a:ext cx="136872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7451640" y="4869000"/>
            <a:ext cx="136836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7740720" y="5589720"/>
            <a:ext cx="86364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596360" y="6324480"/>
            <a:ext cx="11538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0" y="4005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250920" y="2276640"/>
            <a:ext cx="2376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6696000" y="414972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716360" y="4005360"/>
            <a:ext cx="1368360" cy="536040"/>
          </a:xfrm>
          <a:prstGeom prst="rect">
            <a:avLst/>
          </a:prstGeom>
          <a:solidFill>
            <a:srgbClr val="b4dc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1" descr="AD001810"/>
          <p:cNvPicPr/>
          <p:nvPr/>
        </p:nvPicPr>
        <p:blipFill>
          <a:blip r:embed="rId1">
            <a:lum bright="-72000"/>
          </a:blip>
          <a:stretch/>
        </p:blipFill>
        <p:spPr>
          <a:xfrm rot="19434000">
            <a:off x="2327400" y="2015640"/>
            <a:ext cx="922320" cy="108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AD001810"/>
          <p:cNvPicPr/>
          <p:nvPr/>
        </p:nvPicPr>
        <p:blipFill>
          <a:blip r:embed="rId2">
            <a:lum bright="-76000"/>
          </a:blip>
          <a:stretch/>
        </p:blipFill>
        <p:spPr>
          <a:xfrm rot="19300200">
            <a:off x="2195280" y="3933360"/>
            <a:ext cx="1044360" cy="1224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9" descr="AD001810"/>
          <p:cNvPicPr/>
          <p:nvPr/>
        </p:nvPicPr>
        <p:blipFill>
          <a:blip r:embed="rId3">
            <a:lum bright="-70000"/>
          </a:blip>
          <a:stretch/>
        </p:blipFill>
        <p:spPr>
          <a:xfrm rot="21067800">
            <a:off x="5219640" y="2349360"/>
            <a:ext cx="1292400" cy="15130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7"/>
          <p:cNvSpPr/>
          <p:nvPr/>
        </p:nvSpPr>
        <p:spPr>
          <a:xfrm rot="20985000">
            <a:off x="4643640" y="2781360"/>
            <a:ext cx="1968480" cy="5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 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0" descr="AD001810"/>
          <p:cNvPicPr/>
          <p:nvPr/>
        </p:nvPicPr>
        <p:blipFill>
          <a:blip r:embed="rId4">
            <a:lum bright="-72000"/>
          </a:blip>
          <a:stretch/>
        </p:blipFill>
        <p:spPr>
          <a:xfrm rot="18238200">
            <a:off x="6433200" y="2365560"/>
            <a:ext cx="1290600" cy="1511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6"/>
          <p:cNvSpPr/>
          <p:nvPr/>
        </p:nvSpPr>
        <p:spPr>
          <a:xfrm rot="19998600">
            <a:off x="6768000" y="2560320"/>
            <a:ext cx="227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9"/>
          <p:cNvSpPr/>
          <p:nvPr/>
        </p:nvSpPr>
        <p:spPr>
          <a:xfrm>
            <a:off x="529272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0"/>
          <p:cNvSpPr/>
          <p:nvPr/>
        </p:nvSpPr>
        <p:spPr>
          <a:xfrm>
            <a:off x="5292720" y="530064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1"/>
          <p:cNvSpPr/>
          <p:nvPr/>
        </p:nvSpPr>
        <p:spPr>
          <a:xfrm>
            <a:off x="529272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2"/>
          <p:cNvSpPr/>
          <p:nvPr/>
        </p:nvSpPr>
        <p:spPr>
          <a:xfrm>
            <a:off x="817236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3"/>
          <p:cNvSpPr/>
          <p:nvPr/>
        </p:nvSpPr>
        <p:spPr>
          <a:xfrm>
            <a:off x="8172360" y="530208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4"/>
          <p:cNvSpPr/>
          <p:nvPr/>
        </p:nvSpPr>
        <p:spPr>
          <a:xfrm>
            <a:off x="817236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40 Conector recto de flecha"/>
          <p:cNvCxnSpPr/>
          <p:nvPr/>
        </p:nvCxnSpPr>
        <p:spPr>
          <a:xfrm flipH="1">
            <a:off x="3141360" y="6073920"/>
            <a:ext cx="2160" cy="7862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217" name="42 Conector recto de flecha"/>
          <p:cNvCxnSpPr/>
          <p:nvPr/>
        </p:nvCxnSpPr>
        <p:spPr>
          <a:xfrm flipH="1">
            <a:off x="6286320" y="1142640"/>
            <a:ext cx="2160" cy="42948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sintesis purina"/>
          <p:cNvPicPr/>
          <p:nvPr/>
        </p:nvPicPr>
        <p:blipFill>
          <a:blip r:embed="rId1"/>
          <a:srcRect l="4679" t="10200" r="68448" b="79311"/>
          <a:stretch/>
        </p:blipFill>
        <p:spPr>
          <a:xfrm>
            <a:off x="420840" y="428760"/>
            <a:ext cx="3348000" cy="17780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1"/>
          <p:cNvSpPr/>
          <p:nvPr/>
        </p:nvSpPr>
        <p:spPr>
          <a:xfrm>
            <a:off x="2797200" y="709560"/>
            <a:ext cx="647640" cy="40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1143000" y="2220840"/>
            <a:ext cx="1285920" cy="3988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5-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destino IMP"/>
          <p:cNvPicPr/>
          <p:nvPr/>
        </p:nvPicPr>
        <p:blipFill>
          <a:blip r:embed="rId2"/>
          <a:srcRect l="27955" t="0" r="51306" b="81156"/>
          <a:stretch/>
        </p:blipFill>
        <p:spPr>
          <a:xfrm>
            <a:off x="6143760" y="434880"/>
            <a:ext cx="2555640" cy="2000520"/>
          </a:xfrm>
          <a:prstGeom prst="rect">
            <a:avLst/>
          </a:prstGeom>
          <a:ln w="0">
            <a:noFill/>
          </a:ln>
        </p:spPr>
      </p:pic>
      <p:sp>
        <p:nvSpPr>
          <p:cNvPr id="222" name="8 Flecha derecha"/>
          <p:cNvSpPr/>
          <p:nvPr/>
        </p:nvSpPr>
        <p:spPr>
          <a:xfrm>
            <a:off x="3071880" y="15778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9 Flecha derecha"/>
          <p:cNvSpPr/>
          <p:nvPr/>
        </p:nvSpPr>
        <p:spPr>
          <a:xfrm>
            <a:off x="3714840" y="15778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0 Flecha derecha"/>
          <p:cNvSpPr/>
          <p:nvPr/>
        </p:nvSpPr>
        <p:spPr>
          <a:xfrm>
            <a:off x="4357800" y="15778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1 Flecha derecha"/>
          <p:cNvSpPr/>
          <p:nvPr/>
        </p:nvSpPr>
        <p:spPr>
          <a:xfrm>
            <a:off x="4929120" y="15778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0" y="2255760"/>
            <a:ext cx="91440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icin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squeleto carbonado y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ó 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formilTHF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iere una unidad de carbono. (C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utamin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l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posición 3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libera 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re del anillo por deshidratación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: Por reacción de carboxilación .(C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parta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: El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posición 1.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libera fumara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 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formilTHF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ltimo C. 2° ciclación- anillo purín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072120" y="2000160"/>
            <a:ext cx="1368360" cy="53604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destino IMP"/>
          <p:cNvPicPr/>
          <p:nvPr/>
        </p:nvPicPr>
        <p:blipFill>
          <a:blip r:embed="rId1"/>
          <a:stretch/>
        </p:blipFill>
        <p:spPr>
          <a:xfrm>
            <a:off x="571680" y="0"/>
            <a:ext cx="7921440" cy="6823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2916360" y="1382760"/>
            <a:ext cx="1368360" cy="53604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39640" y="3357720"/>
            <a:ext cx="244800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Xantílico (X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643040" y="4286160"/>
            <a:ext cx="20890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MP-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948360" y="20520"/>
            <a:ext cx="1511280" cy="37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 rot="1927800">
            <a:off x="2123640" y="1915920"/>
            <a:ext cx="25192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MP-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971640" y="6553080"/>
            <a:ext cx="865080" cy="3070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4643280" y="6553080"/>
            <a:ext cx="865440" cy="3070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4284720" y="378936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 rot="19998600">
            <a:off x="4407120" y="937800"/>
            <a:ext cx="331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5435640" y="4941720"/>
            <a:ext cx="27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li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quema de la Biosíntesis de Nucleótidos Pú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3"/>
          <p:cNvGrpSpPr/>
          <p:nvPr/>
        </p:nvGrpSpPr>
        <p:grpSpPr>
          <a:xfrm>
            <a:off x="1619280" y="1440000"/>
            <a:ext cx="6265800" cy="5445000"/>
            <a:chOff x="1619280" y="1440000"/>
            <a:chExt cx="6265800" cy="5445000"/>
          </a:xfrm>
        </p:grpSpPr>
        <p:pic>
          <p:nvPicPr>
            <p:cNvPr id="241" name="Picture 4" descr="sintesis purina"/>
            <p:cNvPicPr/>
            <p:nvPr/>
          </p:nvPicPr>
          <p:blipFill>
            <a:blip r:embed="rId1"/>
            <a:srcRect l="33722" t="36787" r="37101" b="43718"/>
            <a:stretch/>
          </p:blipFill>
          <p:spPr>
            <a:xfrm>
              <a:off x="1619280" y="1440000"/>
              <a:ext cx="62658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7"/>
            <p:cNvSpPr/>
            <p:nvPr/>
          </p:nvSpPr>
          <p:spPr>
            <a:xfrm>
              <a:off x="5076720" y="1792440"/>
              <a:ext cx="935280" cy="542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8"/>
            <p:cNvSpPr/>
            <p:nvPr/>
          </p:nvSpPr>
          <p:spPr>
            <a:xfrm>
              <a:off x="6227640" y="1792440"/>
              <a:ext cx="935280" cy="542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9"/>
            <p:cNvSpPr/>
            <p:nvPr/>
          </p:nvSpPr>
          <p:spPr>
            <a:xfrm>
              <a:off x="4932360" y="2945160"/>
              <a:ext cx="237636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nosinato (IM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0"/>
            <p:cNvSpPr/>
            <p:nvPr/>
          </p:nvSpPr>
          <p:spPr>
            <a:xfrm>
              <a:off x="5651640" y="4097520"/>
              <a:ext cx="93492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R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1"/>
            <p:cNvSpPr/>
            <p:nvPr/>
          </p:nvSpPr>
          <p:spPr>
            <a:xfrm>
              <a:off x="1908000" y="5857920"/>
              <a:ext cx="381636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4859280" y="6042240"/>
              <a:ext cx="2592360" cy="542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50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TABOLISMO DE 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240" y="2421000"/>
            <a:ext cx="28400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403280" y="4292640"/>
            <a:ext cx="324000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64000" y="2492280"/>
            <a:ext cx="295128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U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651640" y="4076640"/>
            <a:ext cx="29509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IRIMIDI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5076720" y="2205000"/>
            <a:ext cx="432000" cy="3529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BIOSINTESIS DE Nucleótidos Pú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332720" y="1557360"/>
            <a:ext cx="2622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195640" y="335772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0" y="5445000"/>
            <a:ext cx="41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D-ribosil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P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651640" y="1700280"/>
            <a:ext cx="1368360" cy="53604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788000" y="6324480"/>
            <a:ext cx="10080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4859280" y="5516640"/>
            <a:ext cx="79236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643280" y="4869000"/>
            <a:ext cx="136872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7451640" y="4869000"/>
            <a:ext cx="136836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7740720" y="5589720"/>
            <a:ext cx="86364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596360" y="6324480"/>
            <a:ext cx="11538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0" y="4005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50920" y="2276640"/>
            <a:ext cx="2376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6696000" y="414972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4716360" y="4005360"/>
            <a:ext cx="1368360" cy="536040"/>
          </a:xfrm>
          <a:prstGeom prst="rect">
            <a:avLst/>
          </a:prstGeom>
          <a:solidFill>
            <a:srgbClr val="b4dc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0" descr="STDA1047"/>
          <p:cNvPicPr/>
          <p:nvPr/>
        </p:nvPicPr>
        <p:blipFill>
          <a:blip r:embed="rId1"/>
          <a:stretch/>
        </p:blipFill>
        <p:spPr>
          <a:xfrm>
            <a:off x="0" y="2133720"/>
            <a:ext cx="1195560" cy="1195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6" descr="STDA1047"/>
          <p:cNvPicPr/>
          <p:nvPr/>
        </p:nvPicPr>
        <p:blipFill>
          <a:blip r:embed="rId2"/>
          <a:stretch/>
        </p:blipFill>
        <p:spPr>
          <a:xfrm>
            <a:off x="250920" y="3789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AD001810"/>
          <p:cNvPicPr/>
          <p:nvPr/>
        </p:nvPicPr>
        <p:blipFill>
          <a:blip r:embed="rId3">
            <a:lum bright="-72000"/>
          </a:blip>
          <a:stretch/>
        </p:blipFill>
        <p:spPr>
          <a:xfrm rot="19434000">
            <a:off x="2327400" y="2015640"/>
            <a:ext cx="922320" cy="1081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AD001810"/>
          <p:cNvPicPr/>
          <p:nvPr/>
        </p:nvPicPr>
        <p:blipFill>
          <a:blip r:embed="rId4">
            <a:lum bright="-76000"/>
          </a:blip>
          <a:stretch/>
        </p:blipFill>
        <p:spPr>
          <a:xfrm rot="19300200">
            <a:off x="2195280" y="3933360"/>
            <a:ext cx="1044360" cy="1224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9" descr="AD001810"/>
          <p:cNvPicPr/>
          <p:nvPr/>
        </p:nvPicPr>
        <p:blipFill>
          <a:blip r:embed="rId5">
            <a:lum bright="-70000"/>
          </a:blip>
          <a:stretch/>
        </p:blipFill>
        <p:spPr>
          <a:xfrm rot="21067800">
            <a:off x="5219640" y="2349360"/>
            <a:ext cx="1292400" cy="1513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7"/>
          <p:cNvSpPr/>
          <p:nvPr/>
        </p:nvSpPr>
        <p:spPr>
          <a:xfrm rot="20985000">
            <a:off x="4643640" y="2781360"/>
            <a:ext cx="1968480" cy="5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 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0" descr="AD001810"/>
          <p:cNvPicPr/>
          <p:nvPr/>
        </p:nvPicPr>
        <p:blipFill>
          <a:blip r:embed="rId6">
            <a:lum bright="-72000"/>
          </a:blip>
          <a:stretch/>
        </p:blipFill>
        <p:spPr>
          <a:xfrm rot="18238200">
            <a:off x="6433200" y="2365560"/>
            <a:ext cx="1290600" cy="15112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6"/>
          <p:cNvSpPr/>
          <p:nvPr/>
        </p:nvSpPr>
        <p:spPr>
          <a:xfrm rot="19998600">
            <a:off x="6768000" y="2560320"/>
            <a:ext cx="227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2" descr="STDA1047"/>
          <p:cNvPicPr/>
          <p:nvPr/>
        </p:nvPicPr>
        <p:blipFill>
          <a:blip r:embed="rId7"/>
          <a:stretch/>
        </p:blipFill>
        <p:spPr>
          <a:xfrm>
            <a:off x="5076720" y="27813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4" descr="STDA1047"/>
          <p:cNvPicPr/>
          <p:nvPr/>
        </p:nvPicPr>
        <p:blipFill>
          <a:blip r:embed="rId8"/>
          <a:stretch/>
        </p:blipFill>
        <p:spPr>
          <a:xfrm>
            <a:off x="7380360" y="2565360"/>
            <a:ext cx="979560" cy="979560"/>
          </a:xfrm>
          <a:prstGeom prst="rect">
            <a:avLst/>
          </a:prstGeom>
          <a:ln w="0">
            <a:noFill/>
          </a:ln>
        </p:spPr>
      </p:pic>
      <p:sp>
        <p:nvSpPr>
          <p:cNvPr id="273" name="Oval 56"/>
          <p:cNvSpPr/>
          <p:nvPr/>
        </p:nvSpPr>
        <p:spPr>
          <a:xfrm>
            <a:off x="5651640" y="3213000"/>
            <a:ext cx="647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8172360" y="263700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2771640" y="393372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9"/>
          <p:cNvSpPr/>
          <p:nvPr/>
        </p:nvSpPr>
        <p:spPr>
          <a:xfrm>
            <a:off x="2843280" y="206064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529272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5292720" y="530064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1"/>
          <p:cNvSpPr/>
          <p:nvPr/>
        </p:nvSpPr>
        <p:spPr>
          <a:xfrm>
            <a:off x="529272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2"/>
          <p:cNvSpPr/>
          <p:nvPr/>
        </p:nvSpPr>
        <p:spPr>
          <a:xfrm>
            <a:off x="817236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3"/>
          <p:cNvSpPr/>
          <p:nvPr/>
        </p:nvSpPr>
        <p:spPr>
          <a:xfrm>
            <a:off x="8172360" y="530208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4"/>
          <p:cNvSpPr/>
          <p:nvPr/>
        </p:nvSpPr>
        <p:spPr>
          <a:xfrm>
            <a:off x="817236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7" descr="ARRWC220"/>
          <p:cNvPicPr/>
          <p:nvPr/>
        </p:nvPicPr>
        <p:blipFill>
          <a:blip r:embed="rId9"/>
          <a:stretch/>
        </p:blipFill>
        <p:spPr>
          <a:xfrm rot="20919000">
            <a:off x="5681520" y="3787560"/>
            <a:ext cx="1692360" cy="2674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0"/>
          <p:cNvSpPr/>
          <p:nvPr/>
        </p:nvSpPr>
        <p:spPr>
          <a:xfrm>
            <a:off x="6732720" y="5661000"/>
            <a:ext cx="503280" cy="70344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1" descr="ARRWC221"/>
          <p:cNvPicPr/>
          <p:nvPr/>
        </p:nvPicPr>
        <p:blipFill>
          <a:blip r:embed="rId10"/>
          <a:stretch/>
        </p:blipFill>
        <p:spPr>
          <a:xfrm rot="15896400">
            <a:off x="5208480" y="4281120"/>
            <a:ext cx="33195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ARRWC178"/>
          <p:cNvPicPr/>
          <p:nvPr/>
        </p:nvPicPr>
        <p:blipFill>
          <a:blip r:embed="rId1"/>
          <a:stretch/>
        </p:blipFill>
        <p:spPr>
          <a:xfrm>
            <a:off x="5132520" y="3068640"/>
            <a:ext cx="344520" cy="1327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IAS DE RECUPE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bases púricas libres se recup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poxantina  +  PRPP            I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uanina  +  PRPP                GMP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nina  +  PRPP                A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211640" y="4581360"/>
            <a:ext cx="266400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osina fosforribosil transferasa (A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780000" y="3357720"/>
            <a:ext cx="352872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xantian-guanina fosforribosil transferasa (HG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4356000" y="544500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4356000" y="429264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716360" y="3141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L METABOLISMO DE NUCLEOTIDOS PU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diagrama biosintesis y recuperacion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581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8"/>
          <p:cNvSpPr/>
          <p:nvPr/>
        </p:nvSpPr>
        <p:spPr>
          <a:xfrm>
            <a:off x="1332000" y="4149720"/>
            <a:ext cx="86364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4643280" y="4797360"/>
            <a:ext cx="1008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2556000" y="4292640"/>
            <a:ext cx="1224000" cy="936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537372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3564000" y="3500280"/>
            <a:ext cx="1584360" cy="56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osforribo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6300720" y="6093000"/>
            <a:ext cx="1584360" cy="34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4356000" y="6093000"/>
            <a:ext cx="18734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6300720" y="1844640"/>
            <a:ext cx="13683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1258920" y="3789360"/>
            <a:ext cx="122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PP   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2340000" y="3789360"/>
            <a:ext cx="129708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PP    amido 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6804000" y="2205000"/>
            <a:ext cx="230508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denina fosforribosil 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 DE PURINAS- FORMACION DE ACIDO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7"/>
          <p:cNvSpPr/>
          <p:nvPr/>
        </p:nvSpPr>
        <p:spPr>
          <a:xfrm>
            <a:off x="1868400" y="1612800"/>
            <a:ext cx="86688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8"/>
          <p:cNvSpPr/>
          <p:nvPr/>
        </p:nvSpPr>
        <p:spPr>
          <a:xfrm>
            <a:off x="2301840" y="194004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556000" y="1844640"/>
            <a:ext cx="901440" cy="76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0"/>
          <p:cNvSpPr/>
          <p:nvPr/>
        </p:nvSpPr>
        <p:spPr>
          <a:xfrm>
            <a:off x="2301840" y="2143080"/>
            <a:ext cx="216000" cy="344520"/>
          </a:xfrm>
          <a:custGeom>
            <a:avLst/>
            <a:gdLst>
              <a:gd name="textAreaLeft" fmla="*/ 28800 w 216000"/>
              <a:gd name="textAreaRight" fmla="*/ 187200 w 216000"/>
              <a:gd name="textAreaTop" fmla="*/ 60120 h 344520"/>
              <a:gd name="textAreaBottom" fmla="*/ 24984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1"/>
          <p:cNvSpPr/>
          <p:nvPr/>
        </p:nvSpPr>
        <p:spPr>
          <a:xfrm>
            <a:off x="395280" y="2143080"/>
            <a:ext cx="2014560" cy="32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ucleot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2"/>
          <p:cNvSpPr/>
          <p:nvPr/>
        </p:nvSpPr>
        <p:spPr>
          <a:xfrm>
            <a:off x="1619280" y="2781360"/>
            <a:ext cx="162252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3"/>
          <p:cNvSpPr/>
          <p:nvPr/>
        </p:nvSpPr>
        <p:spPr>
          <a:xfrm>
            <a:off x="2230560" y="332100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4"/>
          <p:cNvSpPr/>
          <p:nvPr/>
        </p:nvSpPr>
        <p:spPr>
          <a:xfrm>
            <a:off x="2446200" y="3321000"/>
            <a:ext cx="83052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5"/>
          <p:cNvSpPr/>
          <p:nvPr/>
        </p:nvSpPr>
        <p:spPr>
          <a:xfrm>
            <a:off x="2230560" y="3524400"/>
            <a:ext cx="215640" cy="344160"/>
          </a:xfrm>
          <a:custGeom>
            <a:avLst/>
            <a:gdLst>
              <a:gd name="textAreaLeft" fmla="*/ 28800 w 215640"/>
              <a:gd name="textAreaRight" fmla="*/ 186840 w 215640"/>
              <a:gd name="textAreaTop" fmla="*/ 60120 h 344160"/>
              <a:gd name="textAreaBottom" fmla="*/ 249480 h 34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6"/>
          <p:cNvSpPr/>
          <p:nvPr/>
        </p:nvSpPr>
        <p:spPr>
          <a:xfrm>
            <a:off x="179280" y="3429000"/>
            <a:ext cx="1728720" cy="43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7"/>
          <p:cNvSpPr/>
          <p:nvPr/>
        </p:nvSpPr>
        <p:spPr>
          <a:xfrm>
            <a:off x="2446200" y="4197240"/>
            <a:ext cx="1117800" cy="6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8"/>
          <p:cNvSpPr/>
          <p:nvPr/>
        </p:nvSpPr>
        <p:spPr>
          <a:xfrm>
            <a:off x="2230560" y="4197240"/>
            <a:ext cx="0" cy="6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9"/>
          <p:cNvSpPr/>
          <p:nvPr/>
        </p:nvSpPr>
        <p:spPr>
          <a:xfrm>
            <a:off x="2230560" y="4289400"/>
            <a:ext cx="215640" cy="397080"/>
          </a:xfrm>
          <a:custGeom>
            <a:avLst/>
            <a:gdLst>
              <a:gd name="textAreaLeft" fmla="*/ 28800 w 215640"/>
              <a:gd name="textAreaRight" fmla="*/ 186840 w 215640"/>
              <a:gd name="textAreaTop" fmla="*/ 69480 h 397080"/>
              <a:gd name="textAreaBottom" fmla="*/ 28800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1"/>
          <p:cNvSpPr/>
          <p:nvPr/>
        </p:nvSpPr>
        <p:spPr>
          <a:xfrm>
            <a:off x="1619280" y="50864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2"/>
          <p:cNvGraphicFramePr/>
          <p:nvPr/>
        </p:nvGraphicFramePr>
        <p:xfrm>
          <a:off x="4513320" y="2178000"/>
          <a:ext cx="1406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3320" y="2178000"/>
                    <a:ext cx="1406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 Box 73"/>
          <p:cNvSpPr/>
          <p:nvPr/>
        </p:nvSpPr>
        <p:spPr>
          <a:xfrm>
            <a:off x="4946760" y="3289320"/>
            <a:ext cx="1425600" cy="355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4"/>
          <p:cNvSpPr/>
          <p:nvPr/>
        </p:nvSpPr>
        <p:spPr>
          <a:xfrm>
            <a:off x="3924360" y="1557360"/>
            <a:ext cx="122400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5364000" y="1557360"/>
            <a:ext cx="142416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6"/>
          <p:cNvSpPr/>
          <p:nvPr/>
        </p:nvSpPr>
        <p:spPr>
          <a:xfrm>
            <a:off x="5162400" y="1741320"/>
            <a:ext cx="217800" cy="395280"/>
          </a:xfrm>
          <a:custGeom>
            <a:avLst/>
            <a:gdLst>
              <a:gd name="textAreaLeft" fmla="*/ 29160 w 217800"/>
              <a:gd name="textAreaRight" fmla="*/ 188640 w 21780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8"/>
          <p:cNvSpPr/>
          <p:nvPr/>
        </p:nvSpPr>
        <p:spPr>
          <a:xfrm>
            <a:off x="4067280" y="3754440"/>
            <a:ext cx="13334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9"/>
          <p:cNvSpPr/>
          <p:nvPr/>
        </p:nvSpPr>
        <p:spPr>
          <a:xfrm>
            <a:off x="5219640" y="3716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4572000" y="4653000"/>
          <a:ext cx="19447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653000"/>
                    <a:ext cx="1944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82"/>
          <p:cNvSpPr/>
          <p:nvPr/>
        </p:nvSpPr>
        <p:spPr>
          <a:xfrm>
            <a:off x="5580000" y="3645000"/>
            <a:ext cx="14032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3"/>
          <p:cNvSpPr/>
          <p:nvPr/>
        </p:nvSpPr>
        <p:spPr>
          <a:xfrm>
            <a:off x="4572000" y="6021360"/>
            <a:ext cx="19432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4"/>
          <p:cNvSpPr/>
          <p:nvPr/>
        </p:nvSpPr>
        <p:spPr>
          <a:xfrm>
            <a:off x="5148360" y="1628640"/>
            <a:ext cx="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5"/>
          <p:cNvSpPr/>
          <p:nvPr/>
        </p:nvSpPr>
        <p:spPr>
          <a:xfrm>
            <a:off x="7742160" y="4902120"/>
            <a:ext cx="866880" cy="32724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6"/>
          <p:cNvSpPr/>
          <p:nvPr/>
        </p:nvSpPr>
        <p:spPr>
          <a:xfrm flipH="1">
            <a:off x="6227640" y="285264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7"/>
          <p:cNvSpPr/>
          <p:nvPr/>
        </p:nvSpPr>
        <p:spPr>
          <a:xfrm>
            <a:off x="7381800" y="3822840"/>
            <a:ext cx="1511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8"/>
          <p:cNvSpPr/>
          <p:nvPr/>
        </p:nvSpPr>
        <p:spPr>
          <a:xfrm>
            <a:off x="7524720" y="2708280"/>
            <a:ext cx="1295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9"/>
          <p:cNvSpPr/>
          <p:nvPr/>
        </p:nvSpPr>
        <p:spPr>
          <a:xfrm rot="19630800">
            <a:off x="6516720" y="1988640"/>
            <a:ext cx="1728720" cy="436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0"/>
          <p:cNvSpPr/>
          <p:nvPr/>
        </p:nvSpPr>
        <p:spPr>
          <a:xfrm flipV="1">
            <a:off x="8174160" y="43257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1"/>
          <p:cNvSpPr/>
          <p:nvPr/>
        </p:nvSpPr>
        <p:spPr>
          <a:xfrm flipV="1">
            <a:off x="8172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1"/>
          <p:cNvSpPr/>
          <p:nvPr/>
        </p:nvSpPr>
        <p:spPr>
          <a:xfrm>
            <a:off x="5292720" y="3860640"/>
            <a:ext cx="217440" cy="395280"/>
          </a:xfrm>
          <a:custGeom>
            <a:avLst/>
            <a:gdLst>
              <a:gd name="textAreaLeft" fmla="*/ 29160 w 217440"/>
              <a:gd name="textAreaRight" fmla="*/ 188280 w 21744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2"/>
          <p:cNvSpPr/>
          <p:nvPr/>
        </p:nvSpPr>
        <p:spPr>
          <a:xfrm>
            <a:off x="4427640" y="10526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5" descr="fi22p8"/>
          <p:cNvPicPr/>
          <p:nvPr/>
        </p:nvPicPr>
        <p:blipFill>
          <a:blip r:embed="rId1"/>
          <a:srcRect l="0" t="0" r="0" b="36674"/>
          <a:stretch/>
        </p:blipFill>
        <p:spPr>
          <a:xfrm>
            <a:off x="971640" y="765000"/>
            <a:ext cx="1847880" cy="4675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fi22p8"/>
          <p:cNvPicPr/>
          <p:nvPr/>
        </p:nvPicPr>
        <p:blipFill>
          <a:blip r:embed="rId2"/>
          <a:srcRect l="0" t="49744" r="0" b="0"/>
          <a:stretch/>
        </p:blipFill>
        <p:spPr>
          <a:xfrm>
            <a:off x="5076720" y="1628640"/>
            <a:ext cx="1847880" cy="37101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1042920" y="184464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42920" y="357336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TO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971640" y="5084640"/>
            <a:ext cx="20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ALANTO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5003640" y="2276640"/>
            <a:ext cx="20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ALANTO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6084720" y="328464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LIOXI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5219640" y="414972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5"/>
          <p:cNvSpPr/>
          <p:nvPr/>
        </p:nvSpPr>
        <p:spPr>
          <a:xfrm>
            <a:off x="2484360" y="112536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2627280" y="242100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TO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2556000" y="4221000"/>
            <a:ext cx="20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ALANTO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2268360" y="5516640"/>
            <a:ext cx="338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UREA + AC. GLIOXI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9"/>
          <p:cNvSpPr/>
          <p:nvPr/>
        </p:nvSpPr>
        <p:spPr>
          <a:xfrm>
            <a:off x="5580000" y="549360"/>
            <a:ext cx="2592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mates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5435640" y="2060640"/>
            <a:ext cx="3384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unos mamífer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rtugas y molu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1"/>
          <p:cNvSpPr/>
          <p:nvPr/>
        </p:nvSpPr>
        <p:spPr>
          <a:xfrm>
            <a:off x="5867280" y="3716280"/>
            <a:ext cx="230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unos 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2"/>
          <p:cNvSpPr/>
          <p:nvPr/>
        </p:nvSpPr>
        <p:spPr>
          <a:xfrm>
            <a:off x="5867280" y="5373720"/>
            <a:ext cx="30974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yoría de peces y anfi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3"/>
          <p:cNvSpPr/>
          <p:nvPr/>
        </p:nvSpPr>
        <p:spPr>
          <a:xfrm>
            <a:off x="3348000" y="15573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3348000" y="29973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5"/>
          <p:cNvSpPr/>
          <p:nvPr/>
        </p:nvSpPr>
        <p:spPr>
          <a:xfrm>
            <a:off x="3419640" y="47973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1763640" y="170028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Urato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1619280" y="314172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Alanto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1692360" y="485784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Alanto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tos nitrogenados primarios de excreción en algunas e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826920" y="263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11600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771640" y="4076640"/>
            <a:ext cx="49672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a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orpiones                   Excretan 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. garrap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2771640" y="5300640"/>
            <a:ext cx="45370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ngrejos de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sectos                      Almacenan pu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ac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2771640" y="1484280"/>
            <a:ext cx="576108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íferos y primates: Del metabolismos de pu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ebrados terre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ves                                        Uricotél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gartos y serp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sectos terrestres (algunos ac. Alantoico y alanto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859280" y="5445000"/>
            <a:ext cx="217440" cy="863640"/>
          </a:xfrm>
          <a:custGeom>
            <a:avLst/>
            <a:gdLst>
              <a:gd name="textAreaLeft" fmla="*/ 0 w 217440"/>
              <a:gd name="textAreaRight" fmla="*/ 78480 w 2174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4716360" y="422100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5508720" y="2060640"/>
            <a:ext cx="358560" cy="936720"/>
          </a:xfrm>
          <a:custGeom>
            <a:avLst/>
            <a:gdLst>
              <a:gd name="textAreaLeft" fmla="*/ 0 w 358560"/>
              <a:gd name="textAreaRight" fmla="*/ 129600 w 3585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mero se sintetiza el anillo de pirimid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quiere de Carbamil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 dos aminoácidos: Glutamina y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intetiza UTP y C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úa  una proteína trifuncional: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NUCLEOTIDOS PIRIMIDI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1 Título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378" name="1 Título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000000"/>
                  </a:solidFill>
                  <a:latin typeface="Arial"/>
                </a:rPr>
                <a:t>PROCEDENCIA DE LOS ATOMOS DEL ANILLO PIRIMIDIN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19 Grupo"/>
          <p:cNvGrpSpPr/>
          <p:nvPr/>
        </p:nvGrpSpPr>
        <p:grpSpPr>
          <a:xfrm>
            <a:off x="1500120" y="2071800"/>
            <a:ext cx="6072120" cy="3881160"/>
            <a:chOff x="1500120" y="2071800"/>
            <a:chExt cx="6072120" cy="3881160"/>
          </a:xfrm>
        </p:grpSpPr>
        <p:grpSp>
          <p:nvGrpSpPr>
            <p:cNvPr id="381" name="18 Grupo"/>
            <p:cNvGrpSpPr/>
            <p:nvPr/>
          </p:nvGrpSpPr>
          <p:grpSpPr>
            <a:xfrm>
              <a:off x="1500120" y="2071800"/>
              <a:ext cx="6072120" cy="3881160"/>
              <a:chOff x="1500120" y="2071800"/>
              <a:chExt cx="6072120" cy="3881160"/>
            </a:xfrm>
          </p:grpSpPr>
          <p:grpSp>
            <p:nvGrpSpPr>
              <p:cNvPr id="382" name="9 Grupo"/>
              <p:cNvGrpSpPr/>
              <p:nvPr/>
            </p:nvGrpSpPr>
            <p:grpSpPr>
              <a:xfrm>
                <a:off x="1571400" y="2071800"/>
                <a:ext cx="4094280" cy="3881160"/>
                <a:chOff x="1571400" y="2071800"/>
                <a:chExt cx="4094280" cy="3881160"/>
              </a:xfrm>
            </p:grpSpPr>
            <p:pic>
              <p:nvPicPr>
                <p:cNvPr id="383" name="Picture 5" descr="formulas de bases puricas"/>
                <p:cNvPicPr/>
                <p:nvPr/>
              </p:nvPicPr>
              <p:blipFill>
                <a:blip r:embed="rId2"/>
                <a:srcRect l="50834" t="5256" r="7683" b="64395"/>
                <a:stretch/>
              </p:blipFill>
              <p:spPr>
                <a:xfrm>
                  <a:off x="1571400" y="2071800"/>
                  <a:ext cx="4094280" cy="38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4" name="Text Box 11"/>
                <p:cNvSpPr/>
                <p:nvPr/>
              </p:nvSpPr>
              <p:spPr>
                <a:xfrm>
                  <a:off x="1713960" y="2786040"/>
                  <a:ext cx="1643040" cy="398880"/>
                </a:xfrm>
                <a:prstGeom prst="rect">
                  <a:avLst/>
                </a:prstGeom>
                <a:solidFill>
                  <a:srgbClr val="f0d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Citosin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4"/>
                <p:cNvSpPr/>
                <p:nvPr/>
              </p:nvSpPr>
              <p:spPr>
                <a:xfrm rot="5400000">
                  <a:off x="3028680" y="3328920"/>
                  <a:ext cx="1643040" cy="1843200"/>
                </a:xfrm>
                <a:prstGeom prst="pie">
                  <a:avLst/>
                </a:prstGeom>
                <a:noFill/>
                <a:ln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5"/>
                <p:cNvSpPr/>
                <p:nvPr/>
              </p:nvSpPr>
              <p:spPr>
                <a:xfrm>
                  <a:off x="3286080" y="3786120"/>
                  <a:ext cx="360720" cy="1143000"/>
                </a:xfrm>
                <a:prstGeom prst="rect">
                  <a:avLst/>
                </a:prstGeom>
                <a:noFill/>
                <a:ln cap="rnd"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12 CuadroTexto"/>
              <p:cNvSpPr/>
              <p:nvPr/>
            </p:nvSpPr>
            <p:spPr>
              <a:xfrm>
                <a:off x="5715000" y="328608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ASPAR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13 CuadroTexto"/>
              <p:cNvSpPr/>
              <p:nvPr/>
            </p:nvSpPr>
            <p:spPr>
              <a:xfrm>
                <a:off x="1500120" y="38577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CARBAMIL-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9" name="15 Conector recto de flecha"/>
              <p:cNvCxnSpPr/>
              <p:nvPr/>
            </p:nvCxnSpPr>
            <p:spPr>
              <a:xfrm>
                <a:off x="2642760" y="4000680"/>
                <a:ext cx="572040" cy="357840"/>
              </a:xfrm>
              <a:prstGeom prst="straightConnector1">
                <a:avLst/>
              </a:prstGeom>
              <a:ln w="28440">
                <a:solidFill>
                  <a:srgbClr val="005696"/>
                </a:solidFill>
                <a:miter/>
                <a:tailEnd len="med" type="arrow" w="med"/>
              </a:ln>
            </p:spPr>
          </p:cxnSp>
        </p:grpSp>
        <p:cxnSp>
          <p:nvCxnSpPr>
            <p:cNvPr id="390" name="11 Conector recto de flecha"/>
            <p:cNvCxnSpPr/>
            <p:nvPr/>
          </p:nvCxnSpPr>
          <p:spPr>
            <a:xfrm flipH="1">
              <a:off x="4785480" y="3570840"/>
              <a:ext cx="1215000" cy="572040"/>
            </a:xfrm>
            <a:prstGeom prst="straightConnector1">
              <a:avLst/>
            </a:prstGeom>
            <a:ln w="28440">
              <a:solidFill>
                <a:srgbClr val="005696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4"/>
          <p:cNvSpPr/>
          <p:nvPr/>
        </p:nvSpPr>
        <p:spPr>
          <a:xfrm>
            <a:off x="4356000" y="5283360"/>
            <a:ext cx="1440000" cy="16200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9"/>
          <p:cNvSpPr/>
          <p:nvPr/>
        </p:nvSpPr>
        <p:spPr>
          <a:xfrm>
            <a:off x="5867280" y="5877000"/>
            <a:ext cx="433440" cy="503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CARBAMIL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9" descr="glu"/>
          <p:cNvPicPr/>
          <p:nvPr/>
        </p:nvPicPr>
        <p:blipFill>
          <a:blip r:embed="rId1"/>
          <a:stretch/>
        </p:blipFill>
        <p:spPr>
          <a:xfrm>
            <a:off x="1187280" y="4925880"/>
            <a:ext cx="1481400" cy="1932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" descr="gln"/>
          <p:cNvPicPr/>
          <p:nvPr/>
        </p:nvPicPr>
        <p:blipFill>
          <a:blip r:embed="rId2"/>
          <a:srcRect l="0" t="0" r="0" b="4221"/>
          <a:stretch/>
        </p:blipFill>
        <p:spPr>
          <a:xfrm>
            <a:off x="755640" y="1484280"/>
            <a:ext cx="1665360" cy="22320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3"/>
          <p:cNvSpPr/>
          <p:nvPr/>
        </p:nvSpPr>
        <p:spPr>
          <a:xfrm>
            <a:off x="291636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4067280" y="1916280"/>
            <a:ext cx="1512720" cy="7182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826920" y="35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1116000" y="645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3"/>
          <p:cNvSpPr/>
          <p:nvPr/>
        </p:nvSpPr>
        <p:spPr>
          <a:xfrm>
            <a:off x="5796000" y="3573360"/>
            <a:ext cx="2881440" cy="70380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arbamoil fosfato sintetas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4140360" y="2997360"/>
            <a:ext cx="79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4211640" y="3716280"/>
            <a:ext cx="8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0"/>
          <p:cNvSpPr/>
          <p:nvPr/>
        </p:nvSpPr>
        <p:spPr>
          <a:xfrm>
            <a:off x="3276720" y="55738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4500720" y="5157720"/>
            <a:ext cx="38876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-C-O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2"/>
          <p:cNvSpPr/>
          <p:nvPr/>
        </p:nvSpPr>
        <p:spPr>
          <a:xfrm>
            <a:off x="529128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3"/>
          <p:cNvSpPr/>
          <p:nvPr/>
        </p:nvSpPr>
        <p:spPr>
          <a:xfrm>
            <a:off x="536400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826920" y="1557360"/>
            <a:ext cx="433440" cy="785520"/>
          </a:xfrm>
          <a:prstGeom prst="rect">
            <a:avLst/>
          </a:prstGeom>
          <a:solidFill>
            <a:srgbClr val="fcddd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6" descr="NA0110"/>
          <p:cNvPicPr/>
          <p:nvPr/>
        </p:nvPicPr>
        <p:blipFill>
          <a:blip r:embed="rId3"/>
          <a:stretch/>
        </p:blipFill>
        <p:spPr>
          <a:xfrm rot="10800000">
            <a:off x="3276720" y="3054240"/>
            <a:ext cx="452160" cy="2376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8" descr="ARRWC100"/>
          <p:cNvPicPr/>
          <p:nvPr/>
        </p:nvPicPr>
        <p:blipFill>
          <a:blip r:embed="rId4">
            <a:lum bright="-72000"/>
          </a:blip>
          <a:stretch/>
        </p:blipFill>
        <p:spPr>
          <a:xfrm rot="17846400">
            <a:off x="3449160" y="2966760"/>
            <a:ext cx="933480" cy="1136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0" descr="ARRWC234"/>
          <p:cNvPicPr/>
          <p:nvPr/>
        </p:nvPicPr>
        <p:blipFill>
          <a:blip r:embed="rId5">
            <a:lum bright="-50000"/>
          </a:blip>
          <a:stretch/>
        </p:blipFill>
        <p:spPr>
          <a:xfrm rot="11211600">
            <a:off x="3563640" y="4076280"/>
            <a:ext cx="2230200" cy="5317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51"/>
          <p:cNvSpPr/>
          <p:nvPr/>
        </p:nvSpPr>
        <p:spPr>
          <a:xfrm>
            <a:off x="4067280" y="6453360"/>
            <a:ext cx="2448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SON LOS NUCLEOTIDOS Y CUAL ES SU IMPORTANCI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1844280"/>
            <a:ext cx="4788000" cy="79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LECULAS NITROGENADAS 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96000" y="2492280"/>
            <a:ext cx="3246480" cy="28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RECIMIENTO CE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55640" y="2997360"/>
            <a:ext cx="4788000" cy="86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DAD ESTRUCTURAL DE LOS ACIDOS NUCLE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755640" y="4005360"/>
            <a:ext cx="478800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COMO DADORES  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755640" y="4940280"/>
            <a:ext cx="4788000" cy="57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N VIAS METABO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755640" y="5805360"/>
            <a:ext cx="478800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N COMO SEGUNDOS MENSA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quema de la síntesis de UTP y C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44360" y="19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rbamil-fosfato  +  Aspartato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N-Carbamil-aspartato +  P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5580000" y="342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6732720" y="393372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5867280" y="5013360"/>
            <a:ext cx="1008360" cy="47628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7"/>
          <p:cNvSpPr/>
          <p:nvPr/>
        </p:nvSpPr>
        <p:spPr>
          <a:xfrm>
            <a:off x="4716360" y="2276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6372360" y="2421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37236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644364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>
            <a:off x="6443640" y="4437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1908000" y="5013360"/>
            <a:ext cx="86364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3995640" y="5084640"/>
            <a:ext cx="863640" cy="43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7"/>
          <p:cNvSpPr/>
          <p:nvPr/>
        </p:nvSpPr>
        <p:spPr>
          <a:xfrm flipH="1">
            <a:off x="5508720" y="522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8"/>
          <p:cNvSpPr/>
          <p:nvPr/>
        </p:nvSpPr>
        <p:spPr>
          <a:xfrm flipH="1">
            <a:off x="5076720" y="522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9"/>
          <p:cNvSpPr/>
          <p:nvPr/>
        </p:nvSpPr>
        <p:spPr>
          <a:xfrm flipH="1">
            <a:off x="2916000" y="530064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3492360" y="5661000"/>
            <a:ext cx="1008360" cy="64764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2340000" y="5734080"/>
            <a:ext cx="792000" cy="57456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2"/>
          <p:cNvSpPr/>
          <p:nvPr/>
        </p:nvSpPr>
        <p:spPr>
          <a:xfrm rot="5156400">
            <a:off x="3275280" y="5156640"/>
            <a:ext cx="289080" cy="576360"/>
          </a:xfrm>
          <a:custGeom>
            <a:avLst/>
            <a:gdLst>
              <a:gd name="textAreaLeft" fmla="*/ 38520 w 289080"/>
              <a:gd name="textAreaRight" fmla="*/ 250560 w 2890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3"/>
          <p:cNvSpPr/>
          <p:nvPr/>
        </p:nvSpPr>
        <p:spPr>
          <a:xfrm>
            <a:off x="2916360" y="4221000"/>
            <a:ext cx="934920" cy="863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4"/>
          <p:cNvSpPr/>
          <p:nvPr/>
        </p:nvSpPr>
        <p:spPr>
          <a:xfrm>
            <a:off x="5003640" y="3933720"/>
            <a:ext cx="1081080" cy="1295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5"/>
          <p:cNvSpPr/>
          <p:nvPr/>
        </p:nvSpPr>
        <p:spPr>
          <a:xfrm>
            <a:off x="7524720" y="4292640"/>
            <a:ext cx="934920" cy="863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6"/>
          <p:cNvSpPr/>
          <p:nvPr/>
        </p:nvSpPr>
        <p:spPr>
          <a:xfrm>
            <a:off x="468360" y="2852640"/>
            <a:ext cx="934920" cy="863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 flipH="1" flipV="1">
            <a:off x="7093080" y="4292280"/>
            <a:ext cx="358560" cy="43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 flipV="1">
            <a:off x="1185840" y="2491920"/>
            <a:ext cx="577800" cy="5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fi4p3"/>
          <p:cNvPicPr/>
          <p:nvPr/>
        </p:nvPicPr>
        <p:blipFill>
          <a:blip r:embed="rId1"/>
          <a:srcRect l="41654" t="77812" r="28386" b="-4217"/>
          <a:stretch/>
        </p:blipFill>
        <p:spPr>
          <a:xfrm>
            <a:off x="7000920" y="5237280"/>
            <a:ext cx="2143080" cy="1620720"/>
          </a:xfrm>
          <a:prstGeom prst="rect">
            <a:avLst/>
          </a:prstGeom>
          <a:ln w="0">
            <a:noFill/>
          </a:ln>
        </p:spPr>
      </p:pic>
      <p:grpSp>
        <p:nvGrpSpPr>
          <p:cNvPr id="437" name="27 Grupo"/>
          <p:cNvGrpSpPr/>
          <p:nvPr/>
        </p:nvGrpSpPr>
        <p:grpSpPr>
          <a:xfrm>
            <a:off x="7286760" y="2357280"/>
            <a:ext cx="1857240" cy="1571760"/>
            <a:chOff x="7286760" y="2357280"/>
            <a:chExt cx="1857240" cy="1571760"/>
          </a:xfrm>
        </p:grpSpPr>
        <p:sp>
          <p:nvSpPr>
            <p:cNvPr id="438" name="28 Rectángulo"/>
            <p:cNvSpPr/>
            <p:nvPr/>
          </p:nvSpPr>
          <p:spPr>
            <a:xfrm>
              <a:off x="7286760" y="2357280"/>
              <a:ext cx="1857240" cy="15717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7"/>
            <p:cNvSpPr/>
            <p:nvPr/>
          </p:nvSpPr>
          <p:spPr>
            <a:xfrm>
              <a:off x="7454880" y="2680920"/>
              <a:ext cx="887400" cy="1248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PE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P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PE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s-PE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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8" descr="D:\biochem\ch22\fi22p10.gif"/>
            <p:cNvPicPr/>
            <p:nvPr/>
          </p:nvPicPr>
          <p:blipFill>
            <a:blip r:embed="rId2"/>
            <a:srcRect l="32916" t="20154" r="54552" b="66205"/>
            <a:stretch/>
          </p:blipFill>
          <p:spPr>
            <a:xfrm>
              <a:off x="7962120" y="2369880"/>
              <a:ext cx="1013040" cy="14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4" descr="D:\biochem\ch22\fi22p10.gif"/>
          <p:cNvPicPr/>
          <p:nvPr/>
        </p:nvPicPr>
        <p:blipFill>
          <a:blip r:embed="rId3">
            <a:lum bright="-10000"/>
          </a:blip>
          <a:srcRect l="84152" t="19213" r="0" b="66659"/>
          <a:stretch/>
        </p:blipFill>
        <p:spPr>
          <a:xfrm>
            <a:off x="3714840" y="2571840"/>
            <a:ext cx="17431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442" name="45 Grupo"/>
          <p:cNvGrpSpPr/>
          <p:nvPr/>
        </p:nvGrpSpPr>
        <p:grpSpPr>
          <a:xfrm>
            <a:off x="428760" y="3857760"/>
            <a:ext cx="1357200" cy="2071440"/>
            <a:chOff x="428760" y="3857760"/>
            <a:chExt cx="1357200" cy="2071440"/>
          </a:xfrm>
        </p:grpSpPr>
        <p:grpSp>
          <p:nvGrpSpPr>
            <p:cNvPr id="443" name="38 Grupo"/>
            <p:cNvGrpSpPr/>
            <p:nvPr/>
          </p:nvGrpSpPr>
          <p:grpSpPr>
            <a:xfrm>
              <a:off x="428760" y="5357880"/>
              <a:ext cx="1357200" cy="571320"/>
              <a:chOff x="428760" y="5357880"/>
              <a:chExt cx="1357200" cy="571320"/>
            </a:xfrm>
          </p:grpSpPr>
          <p:sp>
            <p:nvSpPr>
              <p:cNvPr id="444" name="Text Box 9"/>
              <p:cNvSpPr/>
              <p:nvPr/>
            </p:nvSpPr>
            <p:spPr>
              <a:xfrm>
                <a:off x="428760" y="5357880"/>
                <a:ext cx="1357200" cy="571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1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s-PE" sz="1100" spc="-1" strike="noStrike">
                    <a:solidFill>
                      <a:srgbClr val="000000"/>
                    </a:solidFill>
                    <a:latin typeface="Arial"/>
                  </a:rPr>
                  <a:t>Ribosa-P-P-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6"/>
              <p:cNvSpPr/>
              <p:nvPr/>
            </p:nvSpPr>
            <p:spPr>
              <a:xfrm>
                <a:off x="857160" y="5643360"/>
                <a:ext cx="785880" cy="2142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200" spc="-1" strike="noStrike">
                    <a:solidFill>
                      <a:srgbClr val="000000"/>
                    </a:solidFill>
                    <a:latin typeface="Arial"/>
                  </a:rPr>
                  <a:t>CT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6" name="Picture 4" descr="D:\biochem\ch22\fi22p10.gif"/>
            <p:cNvPicPr/>
            <p:nvPr/>
          </p:nvPicPr>
          <p:blipFill>
            <a:blip r:embed="rId4">
              <a:lum bright="-10000"/>
            </a:blip>
            <a:srcRect l="38314" t="48526" r="47585" b="37833"/>
            <a:stretch/>
          </p:blipFill>
          <p:spPr>
            <a:xfrm>
              <a:off x="428760" y="3857760"/>
              <a:ext cx="1357200" cy="15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42 Flecha derecha"/>
          <p:cNvSpPr/>
          <p:nvPr/>
        </p:nvSpPr>
        <p:spPr>
          <a:xfrm rot="1134600">
            <a:off x="5214960" y="34290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44 Flecha izquierda"/>
          <p:cNvSpPr/>
          <p:nvPr/>
        </p:nvSpPr>
        <p:spPr>
          <a:xfrm rot="2453400">
            <a:off x="7067160" y="2479680"/>
            <a:ext cx="42876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T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regulacion ATC"/>
          <p:cNvPicPr/>
          <p:nvPr/>
        </p:nvPicPr>
        <p:blipFill>
          <a:blip r:embed="rId1"/>
          <a:stretch/>
        </p:blipFill>
        <p:spPr>
          <a:xfrm>
            <a:off x="1763640" y="1494000"/>
            <a:ext cx="5400720" cy="5337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7"/>
          <p:cNvSpPr/>
          <p:nvPr/>
        </p:nvSpPr>
        <p:spPr>
          <a:xfrm>
            <a:off x="3635280" y="649116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 rot="16200000">
            <a:off x="797760" y="3747240"/>
            <a:ext cx="2665440" cy="58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locidad de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iagrama de  la biosíntesis de Nucleótidos Pirimidí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fi22p10"/>
          <p:cNvPicPr/>
          <p:nvPr/>
        </p:nvPicPr>
        <p:blipFill>
          <a:blip r:embed="rId1"/>
          <a:srcRect l="-3049" t="57614" r="71175" b="5437"/>
          <a:stretch/>
        </p:blipFill>
        <p:spPr>
          <a:xfrm>
            <a:off x="1835280" y="1384200"/>
            <a:ext cx="4897440" cy="54738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7"/>
          <p:cNvSpPr/>
          <p:nvPr/>
        </p:nvSpPr>
        <p:spPr>
          <a:xfrm>
            <a:off x="2428920" y="5084640"/>
            <a:ext cx="1224000" cy="53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a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627280" y="6093000"/>
            <a:ext cx="280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4859280" y="6165720"/>
            <a:ext cx="1727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bosa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uperación de Pirimid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ridina  + ATP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it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m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"/>
          <p:cNvSpPr/>
          <p:nvPr/>
        </p:nvSpPr>
        <p:spPr>
          <a:xfrm>
            <a:off x="3780000" y="1916280"/>
            <a:ext cx="122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"/>
          <p:cNvSpPr/>
          <p:nvPr/>
        </p:nvSpPr>
        <p:spPr>
          <a:xfrm>
            <a:off x="3851280" y="3141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3924360" y="4365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í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forman compuestos muy solubles que pueden ser eliminados fáci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roductos de degradación son: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 NH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MX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lanina y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uede degradarse 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Succinil-Co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puede ingresar al Ciclo de Kre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7858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fi22p11"/>
          <p:cNvPicPr/>
          <p:nvPr/>
        </p:nvPicPr>
        <p:blipFill>
          <a:blip r:embed="rId1"/>
          <a:srcRect l="0" t="0" r="0" b="36673"/>
          <a:stretch/>
        </p:blipFill>
        <p:spPr>
          <a:xfrm>
            <a:off x="396720" y="1000080"/>
            <a:ext cx="3611880" cy="59054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6"/>
          <p:cNvSpPr/>
          <p:nvPr/>
        </p:nvSpPr>
        <p:spPr>
          <a:xfrm>
            <a:off x="1143000" y="3929040"/>
            <a:ext cx="10098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2857680" y="3286080"/>
            <a:ext cx="2087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2214720" y="2949480"/>
            <a:ext cx="1368360" cy="3373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bosa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285840" y="271476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1071720" y="214308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1143000" y="100008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2571840" y="4000680"/>
            <a:ext cx="208764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ribosa-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1143000" y="656280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hidro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40 Grupo"/>
          <p:cNvGrpSpPr/>
          <p:nvPr/>
        </p:nvGrpSpPr>
        <p:grpSpPr>
          <a:xfrm>
            <a:off x="5003640" y="1773360"/>
            <a:ext cx="3313440" cy="4278960"/>
            <a:chOff x="5003640" y="1773360"/>
            <a:chExt cx="3313440" cy="4278960"/>
          </a:xfrm>
        </p:grpSpPr>
        <p:pic>
          <p:nvPicPr>
            <p:cNvPr id="476" name="Picture 5" descr="fi22p11"/>
            <p:cNvPicPr/>
            <p:nvPr/>
          </p:nvPicPr>
          <p:blipFill>
            <a:blip r:embed="rId2"/>
            <a:srcRect l="0" t="58380" r="0" b="0"/>
            <a:stretch/>
          </p:blipFill>
          <p:spPr>
            <a:xfrm>
              <a:off x="5003640" y="1773360"/>
              <a:ext cx="33105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4"/>
            <p:cNvSpPr/>
            <p:nvPr/>
          </p:nvSpPr>
          <p:spPr>
            <a:xfrm>
              <a:off x="5292360" y="1773360"/>
              <a:ext cx="208764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hidrour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5148000" y="3645000"/>
              <a:ext cx="31690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ido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ureidopropio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435280" y="5229360"/>
              <a:ext cx="2087640" cy="82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Al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 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+ 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37 Conector recto"/>
          <p:cNvSpPr/>
          <p:nvPr/>
        </p:nvSpPr>
        <p:spPr>
          <a:xfrm>
            <a:off x="1857240" y="5643720"/>
            <a:ext cx="214560" cy="4284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desoxirribonucleot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DAMP"/>
          <p:cNvPicPr/>
          <p:nvPr/>
        </p:nvPicPr>
        <p:blipFill>
          <a:blip r:embed="rId1">
            <a:lum bright="-16000"/>
          </a:blip>
          <a:srcRect l="0" t="6006" r="0" b="9083"/>
          <a:stretch/>
        </p:blipFill>
        <p:spPr>
          <a:xfrm>
            <a:off x="324000" y="4183200"/>
            <a:ext cx="4038480" cy="22701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5AMP"/>
          <p:cNvPicPr/>
          <p:nvPr/>
        </p:nvPicPr>
        <p:blipFill>
          <a:blip r:embed="rId2">
            <a:lum bright="-18000"/>
          </a:blip>
          <a:srcRect l="0" t="8790" r="0" b="12159"/>
          <a:stretch/>
        </p:blipFill>
        <p:spPr>
          <a:xfrm>
            <a:off x="324000" y="1700280"/>
            <a:ext cx="3973320" cy="23018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2843280" y="1484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059280" y="414972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3"/>
          <p:cNvSpPr/>
          <p:nvPr/>
        </p:nvSpPr>
        <p:spPr>
          <a:xfrm>
            <a:off x="2411280" y="3645000"/>
            <a:ext cx="648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4"/>
          <p:cNvSpPr/>
          <p:nvPr/>
        </p:nvSpPr>
        <p:spPr>
          <a:xfrm>
            <a:off x="8280360" y="4869000"/>
            <a:ext cx="86364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5"/>
          <p:cNvSpPr/>
          <p:nvPr/>
        </p:nvSpPr>
        <p:spPr>
          <a:xfrm>
            <a:off x="8209080" y="5877000"/>
            <a:ext cx="934920" cy="503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4859280" y="1989000"/>
            <a:ext cx="3024360" cy="86364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4716360" y="5300640"/>
            <a:ext cx="3027600" cy="863640"/>
          </a:xfrm>
          <a:custGeom>
            <a:avLst/>
            <a:gdLst>
              <a:gd name="textAreaLeft" fmla="*/ 691200 w 3027600"/>
              <a:gd name="textAreaRight" fmla="*/ 2336400 w 30276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5003640" y="3573360"/>
            <a:ext cx="194328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ibonucleótid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979640" y="6066000"/>
            <a:ext cx="647640" cy="50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8280360" y="2708280"/>
            <a:ext cx="863640" cy="79200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5" descr="ARRWC007"/>
          <p:cNvPicPr/>
          <p:nvPr/>
        </p:nvPicPr>
        <p:blipFill>
          <a:blip r:embed="rId5"/>
          <a:stretch/>
        </p:blipFill>
        <p:spPr>
          <a:xfrm rot="10613400">
            <a:off x="4722480" y="2639160"/>
            <a:ext cx="641160" cy="2762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7" descr="ARRWC008"/>
          <p:cNvPicPr/>
          <p:nvPr/>
        </p:nvPicPr>
        <p:blipFill>
          <a:blip r:embed="rId6"/>
          <a:stretch/>
        </p:blipFill>
        <p:spPr>
          <a:xfrm rot="10575000">
            <a:off x="4140000" y="2693880"/>
            <a:ext cx="583920" cy="27432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9" descr="ARRWC007"/>
          <p:cNvPicPr/>
          <p:nvPr/>
        </p:nvPicPr>
        <p:blipFill>
          <a:blip r:embed="rId7"/>
          <a:stretch/>
        </p:blipFill>
        <p:spPr>
          <a:xfrm rot="212400">
            <a:off x="7451640" y="2705040"/>
            <a:ext cx="503280" cy="2617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1" descr="ARRWC008"/>
          <p:cNvPicPr/>
          <p:nvPr/>
        </p:nvPicPr>
        <p:blipFill>
          <a:blip r:embed="rId8"/>
          <a:stretch/>
        </p:blipFill>
        <p:spPr>
          <a:xfrm>
            <a:off x="7878600" y="3357720"/>
            <a:ext cx="516240" cy="18000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19"/>
          <p:cNvSpPr/>
          <p:nvPr/>
        </p:nvSpPr>
        <p:spPr>
          <a:xfrm rot="19922400">
            <a:off x="6877080" y="4076280"/>
            <a:ext cx="194292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iorredoxina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fi22p18"/>
          <p:cNvPicPr/>
          <p:nvPr/>
        </p:nvPicPr>
        <p:blipFill>
          <a:blip r:embed="rId1"/>
          <a:srcRect l="0" t="0" r="0" b="32247"/>
          <a:stretch/>
        </p:blipFill>
        <p:spPr>
          <a:xfrm>
            <a:off x="142920" y="1214280"/>
            <a:ext cx="8618400" cy="56437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229600" cy="8575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T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3500280" y="3214800"/>
            <a:ext cx="2079720" cy="7038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imidilat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7072200" y="2143080"/>
            <a:ext cx="1079640" cy="40572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gradFill rotWithShape="0">
            <a:gsLst>
              <a:gs pos="0">
                <a:srgbClr val="c7f38a"/>
              </a:gs>
              <a:gs pos="100000">
                <a:srgbClr val="edfa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FARMACOS CAPACES DE INHIBIR ENZIMAS IMPLICADAS EN EL METABOLISMO DE NUCLEO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OPURINOL:  Inhib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Xantina oxid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Competitiva)- Tratamiento de la G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zaserina: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tamina aminotransfer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Suicida)- Anticancerí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uoruracilo:FdUMP-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imidilato sintasa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otrexato y Aminopterina: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hidrofolato reductasa.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187280" y="2421000"/>
            <a:ext cx="3313440" cy="825480"/>
          </a:xfrm>
          <a:prstGeom prst="rect">
            <a:avLst/>
          </a:prstGeom>
          <a:solidFill>
            <a:srgbClr val="fabb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E NITROG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95640" y="4076640"/>
            <a:ext cx="3457440" cy="459720"/>
          </a:xfrm>
          <a:prstGeom prst="rect">
            <a:avLst/>
          </a:prstGeom>
          <a:solidFill>
            <a:srgbClr val="b4dc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356000" y="5229360"/>
            <a:ext cx="2448000" cy="825480"/>
          </a:xfrm>
          <a:prstGeom prst="rect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U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ormulas de bases puricas"/>
          <p:cNvPicPr/>
          <p:nvPr/>
        </p:nvPicPr>
        <p:blipFill>
          <a:blip r:embed="rId1"/>
          <a:srcRect l="0" t="6983" r="55452" b="67524"/>
          <a:stretch/>
        </p:blipFill>
        <p:spPr>
          <a:xfrm>
            <a:off x="611280" y="2852640"/>
            <a:ext cx="3168720" cy="262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ormulas de bases puricas"/>
          <p:cNvPicPr/>
          <p:nvPr/>
        </p:nvPicPr>
        <p:blipFill>
          <a:blip r:embed="rId2"/>
          <a:srcRect l="962" t="35667" r="52674" b="36281"/>
          <a:stretch/>
        </p:blipFill>
        <p:spPr>
          <a:xfrm>
            <a:off x="4932360" y="278136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6"/>
          <p:cNvSpPr/>
          <p:nvPr/>
        </p:nvSpPr>
        <p:spPr>
          <a:xfrm>
            <a:off x="684360" y="2924280"/>
            <a:ext cx="122364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932360" y="2781360"/>
            <a:ext cx="122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rmulas de bases puricas"/>
          <p:cNvPicPr/>
          <p:nvPr/>
        </p:nvPicPr>
        <p:blipFill>
          <a:blip r:embed="rId1"/>
          <a:srcRect l="50834" t="5256" r="7683" b="64395"/>
          <a:stretch/>
        </p:blipFill>
        <p:spPr>
          <a:xfrm>
            <a:off x="971640" y="2060640"/>
            <a:ext cx="2808360" cy="266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formulas de bases puricas"/>
          <p:cNvPicPr/>
          <p:nvPr/>
        </p:nvPicPr>
        <p:blipFill>
          <a:blip r:embed="rId2"/>
          <a:srcRect l="51610" t="35730" r="4113" b="36669"/>
          <a:stretch/>
        </p:blipFill>
        <p:spPr>
          <a:xfrm>
            <a:off x="5292720" y="4653000"/>
            <a:ext cx="2305080" cy="17301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919080" y="2349360"/>
            <a:ext cx="1224000" cy="862560"/>
          </a:xfrm>
          <a:prstGeom prst="rect">
            <a:avLst/>
          </a:prstGeom>
          <a:solidFill>
            <a:srgbClr val="f0d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86240" y="4714920"/>
            <a:ext cx="1224000" cy="398880"/>
          </a:xfrm>
          <a:prstGeom prst="rect">
            <a:avLst/>
          </a:prstGeom>
          <a:solidFill>
            <a:srgbClr val="f4e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236000" y="4221000"/>
            <a:ext cx="158400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468360" y="443700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7"/>
          <p:cNvSpPr/>
          <p:nvPr/>
        </p:nvSpPr>
        <p:spPr>
          <a:xfrm>
            <a:off x="539640" y="5373720"/>
            <a:ext cx="158436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ormulas de bases puricas"/>
          <p:cNvPicPr/>
          <p:nvPr/>
        </p:nvPicPr>
        <p:blipFill>
          <a:blip r:embed="rId3"/>
          <a:srcRect l="53007" t="66498" r="7683" b="3942"/>
          <a:stretch/>
        </p:blipFill>
        <p:spPr>
          <a:xfrm>
            <a:off x="5143680" y="1714680"/>
            <a:ext cx="2447640" cy="2158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5143680" y="1714680"/>
            <a:ext cx="1223640" cy="398880"/>
          </a:xfrm>
          <a:prstGeom prst="rect">
            <a:avLst/>
          </a:prstGeom>
          <a:solidFill>
            <a:srgbClr val="f3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7020000" y="155736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5508720" y="4149720"/>
            <a:ext cx="2376360" cy="2037240"/>
          </a:xfrm>
          <a:prstGeom prst="rect">
            <a:avLst/>
          </a:prstGeom>
          <a:solidFill>
            <a:srgbClr val="fbf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40388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DRIBOSEH"/>
          <p:cNvPicPr/>
          <p:nvPr/>
        </p:nvPicPr>
        <p:blipFill>
          <a:blip r:embed="rId1"/>
          <a:srcRect l="-4346" t="-4803" r="0" b="15891"/>
          <a:stretch/>
        </p:blipFill>
        <p:spPr>
          <a:xfrm>
            <a:off x="5292720" y="3716280"/>
            <a:ext cx="3456000" cy="2665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RIBOSE"/>
          <p:cNvPicPr/>
          <p:nvPr/>
        </p:nvPicPr>
        <p:blipFill>
          <a:blip r:embed="rId2"/>
          <a:srcRect l="-3955" t="-4853" r="0" b="12626"/>
          <a:stretch/>
        </p:blipFill>
        <p:spPr>
          <a:xfrm>
            <a:off x="684360" y="2565360"/>
            <a:ext cx="3786120" cy="27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3" name="Text Box 11"/>
          <p:cNvSpPr/>
          <p:nvPr/>
        </p:nvSpPr>
        <p:spPr>
          <a:xfrm>
            <a:off x="5794200" y="2852640"/>
            <a:ext cx="33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3276720" y="3789360"/>
            <a:ext cx="865080" cy="165564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7596360" y="4797360"/>
            <a:ext cx="865080" cy="165600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fi4p3"/>
          <p:cNvPicPr/>
          <p:nvPr/>
        </p:nvPicPr>
        <p:blipFill>
          <a:blip r:embed="rId1"/>
          <a:srcRect l="0" t="0" r="21858" b="47920"/>
          <a:stretch/>
        </p:blipFill>
        <p:spPr>
          <a:xfrm>
            <a:off x="539640" y="1125360"/>
            <a:ext cx="8029800" cy="459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56000" y="4581360"/>
            <a:ext cx="15843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843280" y="2708280"/>
            <a:ext cx="1584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451640" y="2637000"/>
            <a:ext cx="115272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667640" y="4653000"/>
            <a:ext cx="1008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435640" y="981000"/>
            <a:ext cx="208908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932520" y="22982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77080" y="4220640"/>
            <a:ext cx="4762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i4p3"/>
          <p:cNvPicPr/>
          <p:nvPr/>
        </p:nvPicPr>
        <p:blipFill>
          <a:blip r:embed="rId1"/>
          <a:srcRect l="0" t="48841" r="23042" b="0"/>
          <a:stretch/>
        </p:blipFill>
        <p:spPr>
          <a:xfrm>
            <a:off x="755640" y="1413000"/>
            <a:ext cx="7523280" cy="4289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651640" y="981000"/>
            <a:ext cx="2089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484360" y="2997360"/>
            <a:ext cx="12956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700360" y="4941720"/>
            <a:ext cx="129528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380360" y="2924280"/>
            <a:ext cx="936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451640" y="5013360"/>
            <a:ext cx="9367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804000" y="26348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32440" y="4652640"/>
            <a:ext cx="4762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44:42Z</dcterms:created>
  <dc:creator>Irma</dc:creator>
  <dc:description/>
  <dc:language>en-US</dc:language>
  <cp:lastModifiedBy>Irma</cp:lastModifiedBy>
  <dcterms:modified xsi:type="dcterms:W3CDTF">2013-06-11T13:50:42Z</dcterms:modified>
  <cp:revision>104</cp:revision>
  <dc:subject/>
  <dc:title>METABOLISMO DE NUCLEOTIDOS</dc:title>
</cp:coreProperties>
</file>